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734-7240-4371-B3A0-7DC124C5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E6B-3F2E-4CB1-95BA-ADF377BE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B2C-0C72-4F70-B4CE-D83CCE9F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5B1-888F-4717-972C-08C6F337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880-5523-485A-8313-870A7631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B78-5486-47A1-9357-9A548A7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C3D-C84B-46E0-B684-3E757EC8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763-06D3-4D45-BDD9-C9ECC2C1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1CD-B94B-4784-8AF6-1A36875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439-2D46-4170-AE9D-3F5AE12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2CB-8A7E-4273-8765-151B87A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212-2D4F-4C6A-9834-B3645D0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E6D3-7F92-4B2B-B0D5-D7713677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nglicansonline.org/basics/thirty-nine_article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0 to early 160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 and Religiosi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Secular Authority Ques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- Diet of Aug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-Reluctantly Justified Politic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x - “Blast the Trump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takes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ism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Stuart- Queen of S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(Blood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Ca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s 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Phili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1000s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“Book of Common Prayer” Cran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les became Radicalized (including John Kn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Qu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 Articles of Religio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nglicansonline.org/basics/thirty-nine_article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based Thomas Cranmer’s Book of Pr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s of Dis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tans demand mor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ain of Sabbath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al Bull Excommunicates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ism 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gationalists demand Presby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s Torch Protestan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Dutch in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isassociated w/Sea Beg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II also supporting Catholics France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ant William of Orang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ry Navarre converts back to Cathol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s cousin, Mary Queen of Sc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smoke clears- Church of England or dead/exiled (Conventicle Act 15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Armada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 blew and they were scat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England v. Catholic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gin Queen v. Unrequited? Marriage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Beggars in Netherlands, Piracy at Sea (Drake) + Support of Netherlands-&gt;Ar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da-&gt;30,000 to 50,000 m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communications, weak leadership and a poor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rake delayed onset-&gt;attacked Cad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St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 Grand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Mary of Guise (French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5 sent to France (Devote 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arried to Henry II of France’s Son (Francis II), Mary becomes Queen of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dies-&gt;Queen of Scotland, Husband dies-&gt; returns to Scotland 1561-&gt;remarries-&gt;has a son-&gt;Palace intrigue-Mary abdicates- one year old son-&gt;James VI-&gt;Mary escapes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land-&gt;Protestant-&gt;John K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VI Prote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p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Spain secretly conspire w/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to hand over crown to Philip II (Babington P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 de Medici marries Henr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Huguenot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Kings- Intrigue and plo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(Valois) 1547-15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 so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d Charles V!- kidnapped his dad traded for Henry himself!&gt; makes pals w/Philip II-&gt;the wedding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s Catherine de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known for 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harles (became Charles IX, Catherine was Regent- 8 of 14 years of reign), incompe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enry (became Henry III- note was also King of Poland-) 1589 stabbed to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Margueritte (married Henry of Navarre (Henry IV) St. Bartholomews Massacre!-&gt;later divorced h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ho married Philip II of Spain (at her wedding, Henry II jousted got hurt and die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 (became Francis II but died at just 16) married Mary, Queen of Sco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ueo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Tolerance gave way to intolerance (Edict of Fountainebleau 1540), smattering of tolerance (1562- January Ed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of Population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rd of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Noblewomen! Charlott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b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ries William of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rbon family conversions-&gt;Other noble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2 Fighting begins- Massacre at Vassy. Guise attack on Huguenots. Protestant Churches burned, congregant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etence led to Intr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I dies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IX killed by his m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, alienates Catholics, bungles an assassination and is himself mur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- Expert at 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ing Guise and Bou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Degrees of 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clear the House of Valois wouldn’t gain throne-&gt;next in Line-&gt;Bourbo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bon family conversions to Protestan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I’s death-&gt;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72- Catherine conspires w/Guise family against Bourbons- St. Bartholomew’s Mass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&gt;Guise family plots w/Philip’s Spain against Henry III- Henry assassinates Duk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hilip II married into Valois family and his daughter was to marry Henry of Guise (aiming to be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96 Henry IV (Bourbon) enters into treaty w/Hous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ssacre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t. Bartholomew’s Day Massac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ugust 15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 One Week-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00,000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French Calvinists (Huguenots) Slaugh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friends close but your enemies clos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tensions rise, belief Henry III not vigilant-&gt;Catholic Leagu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ates Catholics, amends Peace of Bealieu- provided some rights to Hugue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Navarre leads Prote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League (Guise) supported by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Henry kills Guise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liation pushes Henry III to ally w/Henry Nav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-&gt;Henry stabbed by fervent mo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ldren-&gt;Bourbon family tak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 (Henry IV)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is is worth a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Religions Several Times (at least 3 times was R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DICT OF 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98-RELIGIOUS TOLERATION- PROTESTANTS ARE ALLOWED TO LIVE IN FRANCE, no services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king throne converte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96 Treaty w/Guis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 1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to describe moderate Catholic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 ahead of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sts as opposed to ide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take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ere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nos (ex-Jews), Moriscos (ex-Musl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dinand (Uncle) has 1/2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ustrian/Spanish Habsbu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Reformation will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- Mary has died 1558, Elizabeth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- Calvi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10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Governm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ly raised taxes (10% sales)-&gt;alie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corial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room next to the Al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lomacy through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ing the Iberian Penins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the Princess of Portug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Tudor (Maria Princess of Portugal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ing Elizabeth (Mary Tudor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incite French Cat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Elizabeth of Valois (Catherine de’ Medici’s and Henry II daughter)- died—Philip totaled 4 wives in the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Flanks and the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1 Battle of Lepanto (note: Cervantes who wrote Don Quixote injured in bat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mans defeated -Spain-&gt;control W. 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Moriscos ex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ess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Provinces (Netherlands) Calvinists rise up and become Independ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 Iberia (15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I inherited, I bought, I conqu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dies w/out an 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(Uncle) claim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 W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influx Silver (New World) -&gt; massive inflation-&gt;Grain prices up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declares Bankruptcy sever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sperous area, Netherlands, gains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ed Jews and Muslims leav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ous area-  Substantial Textil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vinist and Roman Catholic 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owing resentment of Spanish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dinal Granvelle-&gt;Catholicize Country- centraliz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t Margaret (sister) imposes Council of T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ro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ed oppose Catholic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566 Calvinists vandalize Catholic Chu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Philip retaliates-&gt;Duke of Alba Governor General-Council of Troubles=Council of Blood-&gt;1000s leave, many executed-&gt; William of Orange (politique?) rises (assassinated 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beggars (includes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 retaliates,”Spanish Fury”@ Antwerp, 7000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Provinces-&gt;Republic (Union of Brusse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and Protestant Provinces 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evicted (Perpetual Ed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Brussels- di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Union of Arras (eventually 1820s becomes Belgium…note what’s happening there toda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stant Union of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 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of Orange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Supports Dutch-&gt;troops and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do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35:48Z</dcterms:created>
  <dc:creator>Steve Balazs</dc:creator>
  <dc:description/>
  <dc:language>en-US</dc:language>
  <cp:lastModifiedBy>Local User</cp:lastModifiedBy>
  <dcterms:modified xsi:type="dcterms:W3CDTF">2012-10-15T12:54:18Z</dcterms:modified>
  <cp:revision>42</cp:revision>
  <dc:subject/>
  <dc:title>Six Degrees of Philip II</dc:title>
</cp:coreProperties>
</file>